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7B4-F60E-4318-8587-B2F2F5E0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5F1-D2A5-4359-9DD1-D30986A9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575-1791-4AC6-B7FC-A7817FAA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4FE-2EBC-4E1F-9705-0420F3B8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C80-12B7-47D9-81E1-31643C69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508-BC34-471A-AE86-EC7CBD33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F62-EC2A-4B44-9D59-5F39F0B5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C10-01A2-4A1F-882B-5F3C0887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292-7A0E-4B92-8295-0ABE9391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66D-26B0-4302-A872-BFFD465D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923-CCA5-42B0-980A-7F30BC6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484-7526-459C-8120-0C2D5EA6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6E9A-943C-4541-B0D7-573A7C2D3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4800600"/>
            <a:ext cx="7848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Свят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Боже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Свят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Боже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Свят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превъзвишен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-72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Ти Си достое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лава и почи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 радост да 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нес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84720" y="519840"/>
            <a:ext cx="485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Защото Ти сам сътворил си земя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небето и целия св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554616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Ти Си достое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лава и почи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 радост да т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нес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4800600"/>
            <a:ext cx="7848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Свят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Боже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Свят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Боже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Свят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превъзвишен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-72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Ти Си достое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лава и почи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 радост да 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нес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284720" y="519840"/>
            <a:ext cx="485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Защото Ти сам сътворил си земя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небето и целия св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5546160"/>
            <a:ext cx="7772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Ти Си достое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лава и почи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 радост да т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нес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6:18:44Z</dcterms:created>
  <dc:creator>TrifonTrifonow</dc:creator>
  <dc:description/>
  <dc:language>en-US</dc:language>
  <cp:lastModifiedBy>TrifonTrifonow</cp:lastModifiedBy>
  <dcterms:modified xsi:type="dcterms:W3CDTF">2005-12-15T06:20:43Z</dcterms:modified>
  <cp:revision>2</cp:revision>
  <dc:subject/>
  <dc:title>Slide 1</dc:title>
</cp:coreProperties>
</file>